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AF46-B2B2-48D9-9F07-ADC41B13B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ECB7-C93D-473E-8F78-0A1738495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719A-F6F6-4ECB-8FA0-DBE94F136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DFC-CE28-400F-85AD-97E7C994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3800" y="396432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06F-C4B3-4B48-AA46-776EAE17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364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5C8-4727-4637-92EB-2D496992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56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532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380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56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532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B4C-3261-4642-AE7A-61BA524D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B90E-BEC6-45F7-9EB3-89A0BE96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F8D2-5AFE-478A-B779-546ED43C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E7E4-683F-4299-AE14-54588FC6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003F-576B-442A-B2D1-DB2DB82D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2F80-EC40-4D9D-99CD-0F1D9EC9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93800" y="274320"/>
            <a:ext cx="733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DBBB-C5C4-408B-A274-A15589D7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DFBA-ED04-441B-80C1-CF3D5D7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AE7-3C5F-4727-BBD4-99BF564B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364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4D33-08F1-4755-8BA4-7EF26336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00B4-91A8-4BE8-8D4B-46EC7235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93800" y="396432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03A2-AB64-4A2A-8475-66953CE4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364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151C-D27B-4B89-9D56-550E64A4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456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5532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9380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456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5532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2764-336D-49C0-9766-269E7B52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50A-ABC0-4521-8CE5-5E13537A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8C5-F33A-42D3-B42F-539597DF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F89-A910-4FEA-904B-344B84A9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3800" y="274320"/>
            <a:ext cx="733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ABA-482A-4FF6-BBD6-468865F7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979-1752-4316-AEE1-8E077F2C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364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9CF-4161-4BB4-A1B4-53835053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D18-57D2-4EB0-8CEA-062E7D2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E364-B5AF-4E9D-98C1-4D5691360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FC13-C31F-474F-AE8E-872B98CEB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3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Excellence"/>
              </a:rPr>
              <a:t>rd</a:t>
            </a: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 Annual </a:t>
            </a:r>
            <a:br>
              <a:rPr sz="6000"/>
            </a:b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“Footprints in Laconia”</a:t>
            </a:r>
            <a:br>
              <a:rPr sz="6000"/>
            </a:br>
            <a:r>
              <a:rPr b="0" lang="en-US" sz="4000" spc="-1" strike="noStrike">
                <a:solidFill>
                  <a:srgbClr val="716f3b"/>
                </a:solidFill>
                <a:latin typeface="Excellence"/>
              </a:rPr>
              <a:t>Apri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2280" y="2582640"/>
            <a:ext cx="439092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Excellence"/>
              </a:rPr>
              <a:t>Celeb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Excellence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Excellence"/>
              </a:rPr>
              <a:t>of Earth We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Monday, April 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08120" y="1380600"/>
            <a:ext cx="733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xcellence"/>
              </a:rPr>
              <a:t>Save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Turn off the lights for a 2 hour period (more if it is a sunny d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Turn down the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Turn off the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Cook on the gr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Read a book instead of watching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Hang laundry outside to 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Documents and Settings\jbrough\Local Settings\Temporary Internet Files\Content.IE5\5QN3DF1B\MCj04404050000[1].png"/>
          <p:cNvPicPr/>
          <p:nvPr/>
        </p:nvPicPr>
        <p:blipFill>
          <a:blip r:embed="rId9"/>
          <a:stretch/>
        </p:blipFill>
        <p:spPr>
          <a:xfrm>
            <a:off x="7378560" y="198360"/>
            <a:ext cx="15368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076480" y="1275840"/>
            <a:ext cx="6859440" cy="26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xcellence"/>
              </a:rPr>
              <a:t>GET THERE 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Walk or Ride your bike to school/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Carpool with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Take a walk at 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Use the st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Take your dog for a w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1341360" y="169920"/>
            <a:ext cx="733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Tuesday, April 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Wednesday, April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9556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xcellence"/>
              </a:rPr>
              <a:t>Paper 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Use alternatives to paper – slate/smartboard/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Think before you pri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Print/copy double si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Google ap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Thursday, April 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xcellence"/>
              </a:rPr>
              <a:t>REDUCE AND RE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Book sw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Trash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Recycle music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Reusable containers for 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Reusable water bot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Clothing sw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Friday, April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xcellence"/>
              </a:rPr>
              <a:t>POWER DOWN AND GET 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12 – 2 turn off pc’s/cell phones/print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Get outside to clean camp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9160" y="274320"/>
            <a:ext cx="855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6f3b"/>
                </a:solidFill>
                <a:latin typeface="Excellence"/>
              </a:rPr>
              <a:t>Special Thanks to the Laconia School District Green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2" descr=""/>
          <p:cNvPicPr/>
          <p:nvPr/>
        </p:nvPicPr>
        <p:blipFill>
          <a:blip r:embed="rId1"/>
          <a:stretch/>
        </p:blipFill>
        <p:spPr>
          <a:xfrm>
            <a:off x="2981160" y="1427040"/>
            <a:ext cx="5784840" cy="4089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3070080" y="5433840"/>
            <a:ext cx="509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16f3b"/>
                </a:solidFill>
                <a:latin typeface="Excellence"/>
              </a:rPr>
              <a:t>And to all of </a:t>
            </a:r>
            <a:r>
              <a:rPr b="0" i="1" lang="en-US" sz="2400" spc="-1" strike="noStrike">
                <a:solidFill>
                  <a:srgbClr val="716f3b"/>
                </a:solidFill>
                <a:latin typeface="Excellence"/>
              </a:rPr>
              <a:t>YOU</a:t>
            </a:r>
            <a:r>
              <a:rPr b="0" lang="en-US" sz="2400" spc="-1" strike="noStrike">
                <a:solidFill>
                  <a:srgbClr val="716f3b"/>
                </a:solidFill>
                <a:latin typeface="Excellenc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3b"/>
                </a:solidFill>
                <a:latin typeface="Excellence"/>
              </a:rPr>
              <a:t>Laconia School District students and staf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4:49:22Z</dcterms:created>
  <dc:creator>Janet Brough</dc:creator>
  <dc:description/>
  <dc:language>en-US</dc:language>
  <cp:lastModifiedBy>Janet Brough</cp:lastModifiedBy>
  <dcterms:modified xsi:type="dcterms:W3CDTF">2012-04-06T12:33:11Z</dcterms:modified>
  <cp:revision>27</cp:revision>
  <dc:subject/>
  <dc:title>Footprints in Laconia  April 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23091033</vt:lpwstr>
  </property>
</Properties>
</file>